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3A4-5C5F-4964-945F-6AFB9AF1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7EA-E4D8-444A-B5B9-ABF35C8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858-5F88-4EC3-9273-AE00F366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D8B-0126-4186-AAD5-1AC7465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58F-5234-4193-8C01-C1906531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29E-E407-420E-BF99-9FBF8B76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40F-5705-43B1-A434-7424BD7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5BF-4758-47F4-B77A-C6C3CF81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17C-9D5D-4159-9058-BE02F88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665-5625-479D-BEC4-6EB6509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57C-7C91-4E84-A88D-6C28253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630-9672-4619-B8ED-AFC2B9B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148001 / V.2018-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B52-721C-4C3F-A14E-AA4A7960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152280" y="0"/>
            <a:ext cx="8534520" cy="6877080"/>
            <a:chOff x="152280" y="0"/>
            <a:chExt cx="8534520" cy="6877080"/>
          </a:xfrm>
        </p:grpSpPr>
        <p:grpSp>
          <p:nvGrpSpPr>
            <p:cNvPr id="42" name="Group 3"/>
            <p:cNvGrpSpPr/>
            <p:nvPr/>
          </p:nvGrpSpPr>
          <p:grpSpPr>
            <a:xfrm>
              <a:off x="152280" y="0"/>
              <a:ext cx="8534520" cy="6877080"/>
              <a:chOff x="152280" y="0"/>
              <a:chExt cx="8534520" cy="6877080"/>
            </a:xfrm>
          </p:grpSpPr>
          <p:grpSp>
            <p:nvGrpSpPr>
              <p:cNvPr id="43" name="Group 13"/>
              <p:cNvGrpSpPr/>
              <p:nvPr/>
            </p:nvGrpSpPr>
            <p:grpSpPr>
              <a:xfrm>
                <a:off x="152280" y="0"/>
                <a:ext cx="8534520" cy="6877080"/>
                <a:chOff x="152280" y="0"/>
                <a:chExt cx="8534520" cy="6877080"/>
              </a:xfrm>
            </p:grpSpPr>
            <p:grpSp>
              <p:nvGrpSpPr>
                <p:cNvPr id="44" name="Group 10"/>
                <p:cNvGrpSpPr/>
                <p:nvPr/>
              </p:nvGrpSpPr>
              <p:grpSpPr>
                <a:xfrm>
                  <a:off x="152280" y="0"/>
                  <a:ext cx="8534520" cy="6877080"/>
                  <a:chOff x="152280" y="0"/>
                  <a:chExt cx="8534520" cy="6877080"/>
                </a:xfrm>
              </p:grpSpPr>
              <p:pic>
                <p:nvPicPr>
                  <p:cNvPr id="45" name="Picture 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52280" y="0"/>
                    <a:ext cx="85345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" name="TextBox 2"/>
                  <p:cNvSpPr/>
                  <p:nvPr/>
                </p:nvSpPr>
                <p:spPr>
                  <a:xfrm>
                    <a:off x="4518000" y="1981080"/>
                    <a:ext cx="457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00" spc="-1" strike="noStrike">
                        <a:solidFill>
                          <a:srgbClr val="606060"/>
                        </a:solidFill>
                        <a:latin typeface="Aharoni"/>
                        <a:ea typeface="Aharoni"/>
                      </a:rPr>
                      <a:t>K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ounded Rectangle 3"/>
                  <p:cNvSpPr/>
                  <p:nvPr/>
                </p:nvSpPr>
                <p:spPr>
                  <a:xfrm>
                    <a:off x="4624200" y="4629240"/>
                    <a:ext cx="1198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111" h="90649">
                        <a:moveTo>
                          <a:pt x="0" y="48419"/>
                        </a:moveTo>
                        <a:cubicBezTo>
                          <a:pt x="0" y="41405"/>
                          <a:pt x="3305" y="7143"/>
                          <a:pt x="10319" y="7143"/>
                        </a:cubicBezTo>
                        <a:cubicBezTo>
                          <a:pt x="78052" y="7143"/>
                          <a:pt x="48156" y="0"/>
                          <a:pt x="115889" y="0"/>
                        </a:cubicBezTo>
                        <a:cubicBezTo>
                          <a:pt x="122903" y="0"/>
                          <a:pt x="119063" y="43786"/>
                          <a:pt x="119063" y="50800"/>
                        </a:cubicBezTo>
                        <a:lnTo>
                          <a:pt x="109537" y="87312"/>
                        </a:lnTo>
                        <a:cubicBezTo>
                          <a:pt x="109537" y="94326"/>
                          <a:pt x="125284" y="88106"/>
                          <a:pt x="118270" y="88106"/>
                        </a:cubicBezTo>
                        <a:lnTo>
                          <a:pt x="10319" y="90488"/>
                        </a:lnTo>
                        <a:cubicBezTo>
                          <a:pt x="3305" y="90488"/>
                          <a:pt x="21432" y="82421"/>
                          <a:pt x="21432" y="75407"/>
                        </a:cubicBezTo>
                        <a:cubicBezTo>
                          <a:pt x="23813" y="74878"/>
                          <a:pt x="11907" y="74347"/>
                          <a:pt x="14288" y="73818"/>
                        </a:cubicBezTo>
                        <a:lnTo>
                          <a:pt x="0" y="484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6"/>
                  <p:cNvSpPr/>
                  <p:nvPr/>
                </p:nvSpPr>
                <p:spPr>
                  <a:xfrm>
                    <a:off x="2971800" y="4672080"/>
                    <a:ext cx="1522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76200">
                        <a:moveTo>
                          <a:pt x="0" y="0"/>
                        </a:moveTo>
                        <a:lnTo>
                          <a:pt x="152400" y="0"/>
                        </a:lnTo>
                        <a:lnTo>
                          <a:pt x="152400" y="76200"/>
                        </a:lnTo>
                        <a:cubicBezTo>
                          <a:pt x="101600" y="59532"/>
                          <a:pt x="48419" y="61912"/>
                          <a:pt x="0" y="7620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" name="Rectangle 11"/>
                <p:cNvSpPr/>
                <p:nvPr/>
              </p:nvSpPr>
              <p:spPr>
                <a:xfrm>
                  <a:off x="4333680" y="4572720"/>
                  <a:ext cx="137880" cy="161280"/>
                </a:xfrm>
                <a:custGeom>
                  <a:avLst/>
                  <a:gdLst/>
                  <a:ahLst/>
                  <a:rect l="l" t="t" r="r" b="b"/>
                  <a:pathLst>
                    <a:path w="138228" h="161508">
                      <a:moveTo>
                        <a:pt x="23813" y="27867"/>
                      </a:moveTo>
                      <a:cubicBezTo>
                        <a:pt x="61119" y="39773"/>
                        <a:pt x="41275" y="13579"/>
                        <a:pt x="78581" y="18341"/>
                      </a:cubicBezTo>
                      <a:cubicBezTo>
                        <a:pt x="90090" y="19170"/>
                        <a:pt x="104776" y="-10864"/>
                        <a:pt x="104776" y="4266"/>
                      </a:cubicBezTo>
                      <a:cubicBezTo>
                        <a:pt x="180977" y="-4416"/>
                        <a:pt x="105966" y="157129"/>
                        <a:pt x="85726" y="161508"/>
                      </a:cubicBezTo>
                      <a:lnTo>
                        <a:pt x="0" y="116264"/>
                      </a:lnTo>
                      <a:cubicBezTo>
                        <a:pt x="0" y="86004"/>
                        <a:pt x="14288" y="67651"/>
                        <a:pt x="23813" y="278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12"/>
                <p:cNvSpPr/>
                <p:nvPr/>
              </p:nvSpPr>
              <p:spPr>
                <a:xfrm>
                  <a:off x="3962160" y="4674600"/>
                  <a:ext cx="152280" cy="73800"/>
                </a:xfrm>
                <a:custGeom>
                  <a:avLst/>
                  <a:gdLst/>
                  <a:ahLst/>
                  <a:rect l="l" t="t" r="r" b="b"/>
                  <a:pathLst>
                    <a:path w="152400" h="73819">
                      <a:moveTo>
                        <a:pt x="0" y="0"/>
                      </a:moveTo>
                      <a:lnTo>
                        <a:pt x="152400" y="0"/>
                      </a:lnTo>
                      <a:cubicBezTo>
                        <a:pt x="152400" y="24606"/>
                        <a:pt x="119062" y="37305"/>
                        <a:pt x="121443" y="69056"/>
                      </a:cubicBezTo>
                      <a:cubicBezTo>
                        <a:pt x="27781" y="64294"/>
                        <a:pt x="50800" y="73819"/>
                        <a:pt x="0" y="73819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Box 5"/>
              <p:cNvSpPr/>
              <p:nvPr/>
            </p:nvSpPr>
            <p:spPr>
              <a:xfrm rot="20724600">
                <a:off x="4322880" y="4611600"/>
                <a:ext cx="2221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404040"/>
                    </a:solidFill>
                    <a:latin typeface="Microsoft Sans Serif"/>
                    <a:ea typeface="Microsoft Sans Serif"/>
                  </a:rPr>
                  <a:t>KHK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Box 4"/>
              <p:cNvSpPr/>
              <p:nvPr/>
            </p:nvSpPr>
            <p:spPr>
              <a:xfrm>
                <a:off x="4610160" y="4626000"/>
                <a:ext cx="23004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404040"/>
                    </a:solidFill>
                    <a:latin typeface="Microsoft Sans Serif"/>
                    <a:ea typeface="Microsoft Sans Serif"/>
                  </a:rPr>
                  <a:t>KJA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7"/>
              <p:cNvSpPr/>
              <p:nvPr/>
            </p:nvSpPr>
            <p:spPr>
              <a:xfrm>
                <a:off x="2960640" y="4681800"/>
                <a:ext cx="2203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VK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8"/>
              <p:cNvSpPr/>
              <p:nvPr/>
            </p:nvSpPr>
            <p:spPr>
              <a:xfrm>
                <a:off x="3946320" y="4662720"/>
                <a:ext cx="2203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JVW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5"/>
              <p:cNvSpPr/>
              <p:nvPr/>
            </p:nvSpPr>
            <p:spPr>
              <a:xfrm>
                <a:off x="1557000" y="15048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LLQ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Box 16"/>
              <p:cNvSpPr/>
              <p:nvPr/>
            </p:nvSpPr>
            <p:spPr>
              <a:xfrm>
                <a:off x="3405240" y="19620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ID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7"/>
              <p:cNvSpPr/>
              <p:nvPr/>
            </p:nvSpPr>
            <p:spPr>
              <a:xfrm>
                <a:off x="2862000" y="43722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TV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21"/>
              <p:cNvSpPr/>
              <p:nvPr/>
            </p:nvSpPr>
            <p:spPr>
              <a:xfrm>
                <a:off x="3805200" y="6743880"/>
                <a:ext cx="20160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MC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22"/>
              <p:cNvSpPr/>
              <p:nvPr/>
            </p:nvSpPr>
            <p:spPr>
              <a:xfrm>
                <a:off x="6148440" y="643428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PI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Box 23"/>
              <p:cNvSpPr/>
              <p:nvPr/>
            </p:nvSpPr>
            <p:spPr>
              <a:xfrm>
                <a:off x="6286680" y="670572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HB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Box 24"/>
              <p:cNvSpPr/>
              <p:nvPr/>
            </p:nvSpPr>
            <p:spPr>
              <a:xfrm>
                <a:off x="6510240" y="602964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LU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Picture 1" descr=""/>
            <p:cNvPicPr/>
            <p:nvPr/>
          </p:nvPicPr>
          <p:blipFill>
            <a:blip r:embed="rId2"/>
            <a:stretch/>
          </p:blipFill>
          <p:spPr>
            <a:xfrm>
              <a:off x="6716880" y="1941480"/>
              <a:ext cx="85320" cy="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Footer Placeholder 1"/>
          <p:cNvSpPr/>
          <p:nvPr/>
        </p:nvSpPr>
        <p:spPr>
          <a:xfrm>
            <a:off x="77760" y="6562800"/>
            <a:ext cx="12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148001 / V.2021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12:54:28Z</dcterms:created>
  <dc:creator>Derek</dc:creator>
  <dc:description/>
  <dc:language>en-US</dc:language>
  <cp:lastModifiedBy>Stonebarger, Amanda CTR (FAA)</cp:lastModifiedBy>
  <cp:lastPrinted>2017-05-24T20:16:13Z</cp:lastPrinted>
  <dcterms:modified xsi:type="dcterms:W3CDTF">2021-02-09T19:55:47Z</dcterms:modified>
  <cp:revision>28</cp:revision>
  <dc:subject/>
  <dc:title>PowerPoint Presentation</dc:title>
</cp:coreProperties>
</file>